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A7F8-0D0B-4DA1-8825-AAC2DA559FE3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6083-C137-4067-AB3F-EAF031DF91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4D7A-17B1-4585-B194-448A44985A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10CF-2544-419F-9CF7-B243C078CC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9BDA-0DEC-443B-AD46-57A5286000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0FC2-A6AF-43F7-9DAC-4DDF9A0D40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E830-AF98-4C24-965A-69FB46EDF2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DCDA-8154-4F50-AFCA-39E4C3D028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E796-7077-4ECD-A708-40976102D3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C0E9-88F5-4746-B65C-3772CCD074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634E-8378-4A0B-98D0-DDF5C9EEF2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C13B-A856-4220-827C-0410E53867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B493-6EE3-4B31-9F61-ABAF07B814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ABD6-50E5-4A81-9DB3-2CA082DC52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8043-6C5C-4B7F-8815-34414B2909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3117-0A2C-4E92-BA5D-BFB74D1929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8C35-F110-4429-935A-F9898862E0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9380-D238-4351-BB5F-299A02FCF9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2284-4B49-42ED-B62C-930044337B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3D4-35D3-4319-85CE-475A3593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C29-60D3-43F0-8E3B-6149F660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7BE-24FD-4910-8614-E12BC72E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841-6258-4A2D-851D-2266826C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8BF9-8145-4049-918A-F7AFE2E1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1F75-6B3E-40CE-9F12-6684301D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FCD5-2534-4525-8523-097CDDB6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6A39-721C-414D-A89C-B992AAA0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DC79-3CF0-40C7-9D14-8E23D987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F2BA-FFAC-41E4-8E26-CD194908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AAFF-C1DC-47FB-AED3-0237C6AC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2B3F-C960-47AC-9221-25083D9E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A5D7-7A7B-4550-9899-C53F6DFE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8656-2ABE-4A7B-88EC-D391DB7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55D5-A0D9-49CC-8D24-C420D00F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1165-26CE-42E9-A070-982AFAA5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68FA-0BA1-4F47-AABD-AA5015D7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3FC-F393-45CB-B192-1A5B53B3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A5E-DC99-4A2D-B0E7-39C58175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2B9-83DE-4C7F-9493-CF571E53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8B7-A14A-4788-A0D0-9B009376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005-ECF7-4594-BD97-FD2A9DD6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128-9D98-496C-A3EF-BE2B5AB2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55F-1592-460B-BC6A-1F920811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B07F-101B-4B34-9A6F-FFD8D4F974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74CD-EA6D-407B-951E-0FF7BE625AD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856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ódulo 8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Integración en los sistemas de monitoreo de los país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Verdana"/>
              </a:rPr>
              <a:t>Integración del medio ambiente y del cambio climático a nivel nacional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eo de cambios en políticas e institucional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4F40-DA3A-4042-AF0F-70E7ED7DD0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419640" y="3141720"/>
            <a:ext cx="2232000" cy="33732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Integr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ular Callout 5"/>
          <p:cNvSpPr/>
          <p:nvPr/>
        </p:nvSpPr>
        <p:spPr>
          <a:xfrm>
            <a:off x="755640" y="1700280"/>
            <a:ext cx="1981080" cy="83988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mbio de política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ed Rectangular Callout 6"/>
          <p:cNvSpPr/>
          <p:nvPr/>
        </p:nvSpPr>
        <p:spPr>
          <a:xfrm>
            <a:off x="6300720" y="1700280"/>
            <a:ext cx="1979640" cy="83808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mbio instituciona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le 11"/>
          <p:cNvSpPr/>
          <p:nvPr/>
        </p:nvSpPr>
        <p:spPr>
          <a:xfrm>
            <a:off x="152280" y="2708280"/>
            <a:ext cx="3081600" cy="3692520"/>
          </a:xfrm>
          <a:custGeom>
            <a:avLst/>
            <a:gdLst>
              <a:gd name="textAreaLeft" fmla="*/ 150120 w 3081600"/>
              <a:gd name="textAreaRight" fmla="*/ 2931480 w 3081600"/>
              <a:gd name="textAreaTop" fmla="*/ 150120 h 3692520"/>
              <a:gd name="textAreaBottom" fmla="*/ 3542400 h 3692520"/>
            </a:gdLst>
            <a:ahLst/>
            <a:rect l="textAreaLeft" t="textAreaTop" r="textAreaRight" b="textAreaBottom"/>
            <a:pathLst>
              <a:path w="21600" h="25882">
                <a:moveTo>
                  <a:pt x="3600" y="0"/>
                </a:moveTo>
                <a:arcTo wR="3600" hR="3600" stAng="16200000" swAng="-5400000"/>
                <a:lnTo>
                  <a:pt x="0" y="22282"/>
                </a:lnTo>
                <a:arcTo wR="3600" hR="3600" stAng="10800000" swAng="-5400000"/>
                <a:lnTo>
                  <a:pt x="18000" y="258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ntegración de las consideraciones ambientales/cambio climático en políticas y estrategias nacionales y sectorial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arrollo de políticas y planes orientadas a la  adaptación y mitigación (p.ej., RRD, REDD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arrollo de políticas y planes específicos para medio ambiente (p.ej., GIRH, biodiversidad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le 12"/>
          <p:cNvSpPr/>
          <p:nvPr/>
        </p:nvSpPr>
        <p:spPr>
          <a:xfrm>
            <a:off x="5867280" y="2781360"/>
            <a:ext cx="2971800" cy="367344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673440"/>
              <a:gd name="textAreaBottom" fmla="*/ 3528360 h 3673440"/>
            </a:gdLst>
            <a:ahLst/>
            <a:rect l="textAreaLeft" t="textAreaTop" r="textAreaRight" b="textAreaBottom"/>
            <a:pathLst>
              <a:path w="21600" h="26699">
                <a:moveTo>
                  <a:pt x="3600" y="0"/>
                </a:moveTo>
                <a:arcTo wR="3600" hR="3600" stAng="16200000" swAng="-5400000"/>
                <a:lnTo>
                  <a:pt x="0" y="23099"/>
                </a:lnTo>
                <a:arcTo wR="3600" hR="3600" stAng="10800000" swAng="-5400000"/>
                <a:lnTo>
                  <a:pt x="18000" y="26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iderazgo polític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Compromiso institucion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ecanismo de coordinación y particip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cedimient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istem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Herramient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gramas de desarrollo de capacidad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Cloud Callout 8"/>
          <p:cNvSpPr/>
          <p:nvPr/>
        </p:nvSpPr>
        <p:spPr>
          <a:xfrm>
            <a:off x="2705040" y="5257800"/>
            <a:ext cx="3733920" cy="1511280"/>
          </a:xfrm>
          <a:prstGeom prst="cloudCallout">
            <a:avLst>
              <a:gd name="adj1" fmla="val 3097"/>
              <a:gd name="adj2" fmla="val -124351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La integración, ¿se está institucionalizando a todos los niveles?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2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eo de implementación de las políticas y de resultado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F289-7438-4412-AE05-52ADB46A74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492360" y="3860640"/>
            <a:ext cx="230364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Integració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5"/>
          <p:cNvSpPr/>
          <p:nvPr/>
        </p:nvSpPr>
        <p:spPr>
          <a:xfrm>
            <a:off x="539640" y="2205000"/>
            <a:ext cx="2133720" cy="838080"/>
          </a:xfrm>
          <a:prstGeom prst="wedgeRoundRectCallout">
            <a:avLst>
              <a:gd name="adj1" fmla="val 116305"/>
              <a:gd name="adj2" fmla="val 126027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Implementación (insumos, salida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6"/>
          <p:cNvSpPr/>
          <p:nvPr/>
        </p:nvSpPr>
        <p:spPr>
          <a:xfrm>
            <a:off x="5940360" y="2014560"/>
            <a:ext cx="1979640" cy="838080"/>
          </a:xfrm>
          <a:prstGeom prst="wedgeRoundRectCallout">
            <a:avLst>
              <a:gd name="adj1" fmla="val -75393"/>
              <a:gd name="adj2" fmla="val 15375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Resultados, impact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le 11"/>
          <p:cNvSpPr/>
          <p:nvPr/>
        </p:nvSpPr>
        <p:spPr>
          <a:xfrm>
            <a:off x="533520" y="3213000"/>
            <a:ext cx="2700360" cy="334008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340080"/>
              <a:gd name="textAreaBottom" fmla="*/ 3208320 h 3340080"/>
            </a:gdLst>
            <a:ahLst/>
            <a:rect l="textAreaLeft" t="textAreaTop" r="textAreaRight" b="textAreaBottom"/>
            <a:pathLst>
              <a:path w="21600" h="26716">
                <a:moveTo>
                  <a:pt x="3600" y="0"/>
                </a:moveTo>
                <a:arcTo wR="3600" hR="3600" stAng="16200000" swAng="-5400000"/>
                <a:lnTo>
                  <a:pt x="0" y="23116"/>
                </a:lnTo>
                <a:arcTo wR="3600" hR="3600" stAng="10800000" swAng="-5400000"/>
                <a:lnTo>
                  <a:pt x="18000" y="26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Mayor asignación de recurs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(Inclusión de) proyectos/programas de (medidas en) medio ambiente/cambio climático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Implementación y cumplimiento de medidas y reglamentos en relación con el medio ambiente/cambio climátic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le 12"/>
          <p:cNvSpPr/>
          <p:nvPr/>
        </p:nvSpPr>
        <p:spPr>
          <a:xfrm>
            <a:off x="5943600" y="2852640"/>
            <a:ext cx="3124080" cy="370044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700440"/>
              <a:gd name="textAreaBottom" fmla="*/ 3548160 h 3700440"/>
            </a:gdLst>
            <a:ahLst/>
            <a:rect l="textAreaLeft" t="textAreaTop" r="textAreaRight" b="textAreaBottom"/>
            <a:pathLst>
              <a:path w="21600" h="25585">
                <a:moveTo>
                  <a:pt x="3600" y="0"/>
                </a:moveTo>
                <a:arcTo wR="3600" hR="3600" stAng="16200000" swAng="-5400000"/>
                <a:lnTo>
                  <a:pt x="0" y="21985"/>
                </a:lnTo>
                <a:arcTo wR="3600" hR="3600" stAng="10800000" swAng="-5400000"/>
                <a:lnTo>
                  <a:pt x="18000" y="25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Menor deterioro ambiental y su incidencia sobre la pobreza/desarroll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Mayor resiliencia de grupos vulnerables (mujeres, niños, productores agrícolas, comunidades costeras, etc.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Mayor resiliencia de sectores clav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Crecimiento verde, </a:t>
            </a:r>
            <a:br>
              <a:rPr sz="1400"/>
            </a:b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mpleo verd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Desarrollo sostenible desde una perspectiva ambiental, resilientes al clima, de bajas emision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Callout 8"/>
          <p:cNvSpPr/>
          <p:nvPr/>
        </p:nvSpPr>
        <p:spPr>
          <a:xfrm>
            <a:off x="2666880" y="5162400"/>
            <a:ext cx="3810240" cy="1619280"/>
          </a:xfrm>
          <a:prstGeom prst="cloudCallout">
            <a:avLst>
              <a:gd name="adj1" fmla="val 4458"/>
              <a:gd name="adj2" fmla="val -7815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El proceso de integración, ¿obtiene resultados e impactos?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4000" y="2565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Marcos de evaluación de desempeño y apoyo presupuestario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FAD9-39A5-4CAB-8482-0D7FE9D66C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8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Función de los MED (PAF) en relación con el apoyo presupuestario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2349000"/>
            <a:ext cx="8381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l avance medido en función de los criterios y metas de los MED brinda oportunidades para iniciar un diálogo político en el marco del apoyo presupuestari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 MED asociado a estrategias de desarrollo y reducción de la pobreza puede incluir, cada vez con mayor frecuencia, indicadores y objetivos asociados a la sostenibilidad ambiental, la adaptación al cambio climático, la reducción del riesgos de desastres, la eficiencia energética, etc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 el caso del apoyo presupuestario de la CE, el desempeño con respecto a un subconjunto seleccionado de criterios y objetivos también determina la cantidad final de los desembolso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2847-CBD4-4896-A843-DFD93E3CEB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4920" y="2491920"/>
            <a:ext cx="8534520" cy="2057400"/>
          </a:xfrm>
          <a:prstGeom prst="rect">
            <a:avLst/>
          </a:prstGeom>
          <a:solidFill>
            <a:srgbClr val="f8fbfc"/>
          </a:solidFill>
          <a:ln w="25560">
            <a:solidFill>
              <a:srgbClr val="0f5494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Debate y planificación de accion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4C4B-D731-4B0B-9BF4-731EDA9BB2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asar a la ac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eo del medio ambiente y del cambio climátic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eo de cambio político e institucion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nitoreo de la implementación de políticas y de resultad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6CA1-D89B-4A92-BDE2-18B5ED7F9B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4"/>
          <p:cNvSpPr/>
          <p:nvPr/>
        </p:nvSpPr>
        <p:spPr>
          <a:xfrm>
            <a:off x="1908000" y="4437000"/>
            <a:ext cx="5410440" cy="2089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¿Qué puede hacerse y cuáles son las necesidades institucionales y de capacidades en su país/sector de responsabilidad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Recapitulación - Mensajes clav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1844280"/>
            <a:ext cx="8713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l monitoreo del medio ambiente y del cambio climático y el monitoreo de respuestas para la sostenibilidad ambiental y el cambio climático deberían integrarse en los sistemas existentes de monitoreo del desarroll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e trata de un aspecto clave del proceso de integració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xisten muchos aspectos que pueden someterse a monitore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 estado de las variables ambientales está íntimamente vinculado a la pobreza y al desarrollo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 cambio y la variabilidad del clima, así como sus impacto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ambios en políticas e institucion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a implementación y los resultados de las medidas de adaptación y mitigació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DF07-AB30-47B7-90DF-A52EFF6653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Bibliografía cla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21571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gración de la adaptación al cambio climático en proyectos de gestión agrícola y de recursos naturales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climatechange.worldbank.org/content/mainstreaming-adaptation-climate-change-agriculture-and-natural-resources-management-projec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rientación de la Comisión Europea (2009) sobre la integración del medio ambiente y el cambio climático en la cooperación para el desarrollo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europeaid/infopoint/publications/europeaid/172a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5035-AD6A-40F7-9448-F3CCEB4766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Bibliografí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350800"/>
            <a:ext cx="7924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C (2004) Project Cycle Management Guidelines. Serie de Métodos de Prestación de Ayuda, Volumen 1. Comisión Europea, Bruselas. Disponible en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europeaid/infopoint/publications/europeaid/documents/49a_adm_pcm_guidelines_2004_en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Comisión Europea (2009) Orientación sobre la integración del medio ambiente y el cambio climático en la cooperación para el desarrollo. Serie de Métodos y Herramientas de EuropeAid, Directrices, nº 4. Disponible en: http://ec.europa.eu/europeaid/infopoint/publications/europeaid/172a_en.htm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CDE (2002) Glosario de términos clave en la evaluación y la gestión basada en resultados. Ediciones OCDE, París. Disponible en: </a:t>
            </a:r>
            <a:r>
              <a:rPr b="0" lang="en-GB" sz="14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29/21/2754804.pdf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9088-9363-42F7-99AF-1C9F7712F9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Monitoreo y medición del desempeño: </a:t>
            </a:r>
            <a:br>
              <a:rPr sz="2800"/>
            </a:b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Conceptos clav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9D8D-E49D-47D1-86C8-5D7CCE17D3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bjetivos e indicadores/hitos relacionado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58920" y="141300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Jerarquía de objetiv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292720" y="1413000"/>
            <a:ext cx="297180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Medición del progreso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295280" y="2279520"/>
            <a:ext cx="2971800" cy="70380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Objetivo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global(e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95280" y="3152880"/>
            <a:ext cx="2971800" cy="70380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Objetivo(s)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específico(s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295280" y="4305240"/>
            <a:ext cx="2971800" cy="70380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Resultad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intermedi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295280" y="5319720"/>
            <a:ext cx="2971800" cy="100872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Insum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292720" y="2276640"/>
            <a:ext cx="2936880" cy="703800"/>
          </a:xfrm>
          <a:prstGeom prst="rect">
            <a:avLst/>
          </a:prstGeom>
          <a:solidFill>
            <a:srgbClr val="60606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dicadores de impacto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57800" y="3141720"/>
            <a:ext cx="2971800" cy="703800"/>
          </a:xfrm>
          <a:prstGeom prst="rect">
            <a:avLst/>
          </a:prstGeom>
          <a:solidFill>
            <a:srgbClr val="e9f4f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Indicadores d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resultad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257800" y="4149720"/>
            <a:ext cx="2971800" cy="1008720"/>
          </a:xfrm>
          <a:prstGeom prst="rect">
            <a:avLst/>
          </a:prstGeom>
          <a:solidFill>
            <a:srgbClr val="f0f8f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Indicadores de product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t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257800" y="5313240"/>
            <a:ext cx="2971800" cy="1008720"/>
          </a:xfrm>
          <a:prstGeom prst="rect">
            <a:avLst/>
          </a:prstGeom>
          <a:solidFill>
            <a:srgbClr val="f8fbf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Indicadores de insum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Verdana"/>
              </a:rPr>
              <a:t>Hit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3"/>
          <p:cNvCxnSpPr>
            <a:stCxn id="105" idx="0"/>
            <a:endCxn id="104" idx="2"/>
          </p:cNvCxnSpPr>
          <p:nvPr/>
        </p:nvCxnSpPr>
        <p:spPr>
          <a:xfrm flipV="1">
            <a:off x="2781000" y="5013000"/>
            <a:ext cx="1080" cy="3067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1" name="Straight Arrow Connector 17"/>
          <p:cNvCxnSpPr>
            <a:stCxn id="104" idx="0"/>
            <a:endCxn id="103" idx="2"/>
          </p:cNvCxnSpPr>
          <p:nvPr/>
        </p:nvCxnSpPr>
        <p:spPr>
          <a:xfrm flipV="1">
            <a:off x="2781000" y="3859920"/>
            <a:ext cx="1080" cy="4453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/>
          <p:nvPr/>
        </p:nvCxnSpPr>
        <p:spPr>
          <a:xfrm flipV="1">
            <a:off x="2771280" y="2970000"/>
            <a:ext cx="1080" cy="21024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3" name="Straight Arrow Connector 21"/>
          <p:cNvCxnSpPr>
            <a:stCxn id="109" idx="1"/>
            <a:endCxn id="105" idx="3"/>
          </p:cNvCxnSpPr>
          <p:nvPr/>
        </p:nvCxnSpPr>
        <p:spPr>
          <a:xfrm flipH="1">
            <a:off x="4266720" y="5821200"/>
            <a:ext cx="991440" cy="72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4" name="Straight Arrow Connector 25"/>
          <p:cNvCxnSpPr>
            <a:stCxn id="108" idx="1"/>
            <a:endCxn id="104" idx="3"/>
          </p:cNvCxnSpPr>
          <p:nvPr/>
        </p:nvCxnSpPr>
        <p:spPr>
          <a:xfrm flipH="1">
            <a:off x="4266720" y="4655880"/>
            <a:ext cx="991440" cy="39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5" name="Straight Arrow Connector 27"/>
          <p:cNvCxnSpPr>
            <a:stCxn id="107" idx="1"/>
            <a:endCxn id="103" idx="3"/>
          </p:cNvCxnSpPr>
          <p:nvPr/>
        </p:nvCxnSpPr>
        <p:spPr>
          <a:xfrm flipH="1">
            <a:off x="4266720" y="3495240"/>
            <a:ext cx="991440" cy="1188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16" name="Straight Arrow Connector 29"/>
          <p:cNvCxnSpPr>
            <a:stCxn id="106" idx="1"/>
            <a:endCxn id="102" idx="3"/>
          </p:cNvCxnSpPr>
          <p:nvPr/>
        </p:nvCxnSpPr>
        <p:spPr>
          <a:xfrm flipH="1">
            <a:off x="4266360" y="2630160"/>
            <a:ext cx="1026360" cy="39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17" name="Left Brace 30"/>
          <p:cNvSpPr/>
          <p:nvPr/>
        </p:nvSpPr>
        <p:spPr>
          <a:xfrm>
            <a:off x="884160" y="4275000"/>
            <a:ext cx="335160" cy="16002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1600200"/>
              <a:gd name="textAreaBottom" fmla="*/ 15915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7"/>
                </a:cubicBezTo>
                <a:lnTo>
                  <a:pt x="10800" y="10423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7"/>
                </a:cubicBezTo>
                <a:lnTo>
                  <a:pt x="10800" y="21223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Left Brace 31"/>
          <p:cNvSpPr/>
          <p:nvPr/>
        </p:nvSpPr>
        <p:spPr>
          <a:xfrm>
            <a:off x="914400" y="2425680"/>
            <a:ext cx="287280" cy="16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620720"/>
              <a:gd name="textAreaBottom" fmla="*/ 1613520 h 16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19"/>
                </a:cubicBezTo>
                <a:lnTo>
                  <a:pt x="10800" y="10481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19"/>
                </a:cubicBezTo>
                <a:lnTo>
                  <a:pt x="10800" y="21281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468360" y="1844640"/>
            <a:ext cx="287280" cy="25275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Resultad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468360" y="4437000"/>
            <a:ext cx="304920" cy="17974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ces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0" y="6550200"/>
            <a:ext cx="42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CE (2004), OCDE (200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858000" y="654516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BECB-1983-427E-A27F-FDFDAE017B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dicadores y objetivos SMAR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E0C6-07CA-4211-8AA7-E1D74C19BF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04920" y="1889280"/>
            <a:ext cx="868680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s indicadores y objetivos deberían ser: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específicos con respecto a los objetivos asociado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dibl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Realizables a un coste razonabl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tinentes, en relación con las necesidades de información de los tomadores de decision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Verdana"/>
                <a:ea typeface="ＭＳ Ｐゴシック"/>
              </a:rPr>
              <a:t>y con plazo determinado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495680" y="64771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C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2492280"/>
            <a:ext cx="8534160" cy="1981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La integración del medio ambiente y del cambio climático en los sistemas de monitoreo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6E5E-E460-4A18-A61A-CDD83DA8C3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¿Qué debería monitorearse? ¿Por qué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B0BE-14C0-4621-83C8-6C98244D96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844640"/>
          <a:ext cx="8686800" cy="4883040"/>
        </p:xfrm>
        <a:graphic>
          <a:graphicData uri="http://schemas.openxmlformats.org/drawingml/2006/table">
            <a:tbl>
              <a:tblPr/>
              <a:tblGrid>
                <a:gridCol w="4038480"/>
                <a:gridCol w="4648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pecto a monitorea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damentos para monitorea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bios en parámetros ambientales que influyen considerablemente en la pobreza y el desarroll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mar decisiones lo más fundamentadas que sea posible para aprovechar oportunidades de mejorar los efectos en la reducción de la pobreza y revertir las tendencias negativ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cambio y la variabilidad del clima, los impactos y los factores de vulnerabilida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mar decisiones lo mejor informadas que sea pos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stión de apoyo adaptativ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bio político e instituciona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ver la institucionalización de la integración del medio ambiente y cambio climátic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jorar la transparencia y responsabilidad del proceso de integr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ción y resultados de políticas/estrategi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olidar el compromiso con respecto a los objetivos establecidos en políticas y estrategi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imular el logro de resultados tangib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l medio ambiente y el cambio climático en el sistema nacional de monitoreo de desarrollo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708280"/>
            <a:ext cx="85341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l monitoreo del medio ambiente y del cambio climático debería integrarse en sistemas de monitoreo de desarrollo nacionales y específicos más amplio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=&gt;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Consolidar y adaptar los sistemas de monitoreo existentes (incl. sistemas estadísticos) para integrar el medio ambiente y el cambio climátic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Desarrollar instituciones y fuentes de información existentes..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.. adaptando, no obstante, los sistemas estadísticos y las fuentes de dato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807F-6061-4D73-A565-64072E058F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Niveles a los que debe medirse el desempeño relativo al medio ambiente y al clima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2349360"/>
            <a:ext cx="845028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os indicadores e hitos relativos al medio ambiente/cambio climático y la respuesta asociada pueden incluirse en los MED</a:t>
            </a:r>
            <a:r>
              <a:rPr b="0" lang="en-GB" sz="2400" spc="-1" strike="noStrike" baseline="30000">
                <a:solidFill>
                  <a:srgbClr val="0f5494"/>
                </a:solidFill>
                <a:latin typeface="Verdana"/>
              </a:rPr>
              <a:t>(*)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de estrategias y planes de acciones ambientales y de cambio climático, pero también los de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strategias y programas de desarrollo nacionales y sectoria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lanes de desarrollo subnacionales (p.ej., regional, loca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yectos individuales (marco lógico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*) Marcos de evaluación de desempeño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Right Brace 3"/>
          <p:cNvSpPr/>
          <p:nvPr/>
        </p:nvSpPr>
        <p:spPr>
          <a:xfrm>
            <a:off x="8443800" y="4025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ounded Rectangular Callout 4"/>
          <p:cNvSpPr/>
          <p:nvPr/>
        </p:nvSpPr>
        <p:spPr>
          <a:xfrm>
            <a:off x="5538960" y="5805360"/>
            <a:ext cx="3065400" cy="990720"/>
          </a:xfrm>
          <a:prstGeom prst="wedgeRoundRectCallout">
            <a:avLst>
              <a:gd name="adj1" fmla="val 41916"/>
              <a:gd name="adj2" fmla="val -129430"/>
              <a:gd name="adj3" fmla="val 16667"/>
            </a:avLst>
          </a:prstGeom>
          <a:solidFill>
            <a:srgbClr val="0f549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El objetivo primordial de la integració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86CE-EAB3-49FE-B5E4-FF95C2A05C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onitoreo del medio ambiente y el cambio climático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89A4-13CB-4226-8A4F-EB9CA92569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492360" y="3736800"/>
            <a:ext cx="2232000" cy="38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Integració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Rounded Rectangular Callout 5"/>
          <p:cNvSpPr/>
          <p:nvPr/>
        </p:nvSpPr>
        <p:spPr>
          <a:xfrm>
            <a:off x="395280" y="2079720"/>
            <a:ext cx="2438280" cy="1144440"/>
          </a:xfrm>
          <a:prstGeom prst="wedgeRoundRectCallout">
            <a:avLst>
              <a:gd name="adj1" fmla="val 96064"/>
              <a:gd name="adj2" fmla="val 9423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Parámetros de meteorología, variabilidad climática y ambiental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6372360" y="2368440"/>
            <a:ext cx="1979640" cy="838440"/>
          </a:xfrm>
          <a:prstGeom prst="wedgeRoundRectCallout">
            <a:avLst>
              <a:gd name="adj1" fmla="val -108745"/>
              <a:gd name="adj2" fmla="val 96180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ambio climátic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ounded Rectangle 11"/>
          <p:cNvSpPr/>
          <p:nvPr/>
        </p:nvSpPr>
        <p:spPr>
          <a:xfrm>
            <a:off x="324000" y="3448080"/>
            <a:ext cx="27003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Recopilación, gestión y difusión de dat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Consolidación de sistemas y datos meteorológic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Rounded Rectangle 12"/>
          <p:cNvSpPr/>
          <p:nvPr/>
        </p:nvSpPr>
        <p:spPr>
          <a:xfrm>
            <a:off x="6012000" y="3448080"/>
            <a:ext cx="2928960" cy="19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Nuevos model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Tendencias emergent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Previsiones, escenari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Herramientas para evaluar impactos, factores de vulnerabilidad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y riesg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Cloud Callout 8"/>
          <p:cNvSpPr/>
          <p:nvPr/>
        </p:nvSpPr>
        <p:spPr>
          <a:xfrm>
            <a:off x="2681280" y="5040360"/>
            <a:ext cx="3781440" cy="1523880"/>
          </a:xfrm>
          <a:prstGeom prst="cloudCallout">
            <a:avLst>
              <a:gd name="adj1" fmla="val 620"/>
              <a:gd name="adj2" fmla="val -101967"/>
            </a:avLst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El proceso de integración, ¿se basa en información fiable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5-25T15:43:27Z</dcterms:modified>
  <cp:revision>122</cp:revision>
  <dc:subject/>
  <dc:title>Slide 1</dc:title>
</cp:coreProperties>
</file>